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69BB-4921-4E88-806C-4A410B991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380880" y="685800"/>
            <a:ext cx="609624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E2FC-97F7-4299-B6E9-3033FD5A95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380880" y="685800"/>
            <a:ext cx="609624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65A2-0DD3-4295-8676-83C3A49287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2F7EB-2659-4083-B28C-375353F09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80AC5-C79D-43CE-8099-9A2C93A8C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EE117-FAE1-4A7F-950E-C99B20F00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64A7B-D982-402E-9D99-442D45DDC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4648D-39AA-4906-B540-32CD7C502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24155-ECA7-45C8-84D5-8DAD1BBCB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E3C66-3F15-4200-8761-8FE72B9FD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40041-E156-45C7-9E3A-48CBED0A0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CF41E-D5C2-4722-B39B-2E612A966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C252-1EC9-45D2-9375-E496BCA0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848C6-27B2-4225-8442-36279AEA0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8D26A-5ADC-4833-9B47-D90FDFEE3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5516-A726-4B5C-87D6-BCA6A63836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Nuclear endocrinology</a:t>
            </a:r>
            <a:endParaRPr b="0" lang="en-US" sz="4800" spc="-1" strike="noStrike">
              <a:solidFill>
                <a:srgbClr val="000000"/>
              </a:solidFill>
              <a:latin typeface="Calibri Light"/>
            </a:endParaRPr>
          </a:p>
        </p:txBody>
      </p:sp>
      <p:sp>
        <p:nvSpPr>
          <p:cNvPr id="49" name="PlaceHolder 2"/>
          <p:cNvSpPr>
            <a:spLocks noGrp="1"/>
          </p:cNvSpPr>
          <p:nvPr>
            <p:ph type="subTitle"/>
          </p:nvPr>
        </p:nvSpPr>
        <p:spPr>
          <a:xfrm>
            <a:off x="1523880" y="3602160"/>
            <a:ext cx="9144000" cy="5810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thyroid gland, adrenal gland, neuroendocrine tum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
          <p:cNvSpPr txBox="1"/>
          <p:nvPr/>
        </p:nvSpPr>
        <p:spPr>
          <a:xfrm>
            <a:off x="838080" y="1825200"/>
            <a:ext cx="10515600" cy="4351320"/>
          </a:xfrm>
          <a:prstGeom prst="rect">
            <a:avLst/>
          </a:prstGeom>
          <a:noFill/>
          <a:ln w="0">
            <a:noFill/>
          </a:ln>
        </p:spPr>
        <p:txBody>
          <a:bodyPr anchor="t">
            <a:normAutofit fontScale="99000"/>
          </a:bodyPr>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BG Scintigraphy; 10.15 mci I-123 metaiodobenzylguanidine (MIBG) i.v. and 2 drops Lugol’s solution p.o. three times daily for 4 day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ing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BG: Numerous foci of intense increased uptake consistent with metastatic pheochromocytoma are noted. The foci predominately involve the skull, thoracic spine, lumbar spine, pelvis, bilateral femoral. There is also a focus anteriorly within the right hemithorax, either within the chest wall or within the right lung. Note, numerous foci overlie the midline, likely within the spine, however, retroperitoneal lymphadenopathy could have a similar appearance.</a:t>
            </a:r>
            <a:endParaRPr b="0" lang="en-US" sz="2400" spc="-1" strike="noStrike">
              <a:solidFill>
                <a:srgbClr val="000000"/>
              </a:solidFill>
              <a:latin typeface="Calibri"/>
            </a:endParaRPr>
          </a:p>
          <a:p>
            <a:pPr marL="226080" indent="-2260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T: 1.1 x 1.3 cm nodule in the left adrenal bed concerning for recurrent pheochromocytoma. Lytic iliac lesions are noted on the bone window in the pelvi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2139840" y="587520"/>
            <a:ext cx="7159680" cy="5229000"/>
          </a:xfrm>
          <a:prstGeom prst="rect">
            <a:avLst/>
          </a:prstGeom>
          <a:ln w="0">
            <a:noFill/>
          </a:ln>
        </p:spPr>
      </p:pic>
      <p:sp>
        <p:nvSpPr>
          <p:cNvPr id="70" name="Rectangle 4"/>
          <p:cNvSpPr/>
          <p:nvPr/>
        </p:nvSpPr>
        <p:spPr>
          <a:xfrm>
            <a:off x="3288960" y="6072120"/>
            <a:ext cx="526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terior and posterior whole body I-123 MIBG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4680"/>
            <a:ext cx="1051560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4</a:t>
            </a:r>
            <a:endParaRPr b="0" lang="en-US" sz="3600" spc="-1" strike="noStrike">
              <a:solidFill>
                <a:srgbClr val="000000"/>
              </a:solidFill>
              <a:latin typeface="Calibri Light"/>
            </a:endParaRPr>
          </a:p>
        </p:txBody>
      </p:sp>
      <p:sp>
        <p:nvSpPr>
          <p:cNvPr id="72" name=""/>
          <p:cNvSpPr txBox="1"/>
          <p:nvPr/>
        </p:nvSpPr>
        <p:spPr>
          <a:xfrm>
            <a:off x="838080" y="1404720"/>
            <a:ext cx="10515600" cy="4771800"/>
          </a:xfrm>
          <a:prstGeom prst="rect">
            <a:avLst/>
          </a:prstGeom>
          <a:noFill/>
          <a:ln w="0">
            <a:noFill/>
          </a:ln>
        </p:spPr>
        <p:txBody>
          <a:bodyPr anchor="t">
            <a:normAutofit/>
          </a:bodyPr>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3-year-old boy was admitted to the Pediatric Emergency Unit with abdominal pain and vomiting. He lost 1.5 kg in the last 6 months, had mild abdominal discomfort, and irregular stool. On enquiring, parents mentioned night sweats, periodically high temperatures, and restless sleep.</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ltrasound and computed tomography scan examination showed a large abdominal, partially mediastinal tumor mass that spread to the tracheal bifurcation and to the common iliac artery, dislocating the aorta, the esophagus, and many abdominal organ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hild suffered from mild anemia, and high serum lactate dehydrogenase, neuron-specific enolase (NSE), and ferritin levels were noticed. Catecholamine and metabolites concentrations were significantly elevated in both blood and collected urine sample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fferential diagnosi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ich nuclear medicine examination would you perform?</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0"/>
            <a:ext cx="10515600" cy="105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06/2022 diagnostic </a:t>
            </a:r>
            <a:r>
              <a:rPr b="0" lang="sl-SI" sz="2200" spc="-1" strike="noStrike">
                <a:solidFill>
                  <a:srgbClr val="000000"/>
                </a:solidFill>
                <a:latin typeface="Calibri"/>
              </a:rPr>
              <a:t>I</a:t>
            </a:r>
            <a:r>
              <a:rPr b="0" lang="en-US" sz="2200" spc="-1" strike="noStrike">
                <a:solidFill>
                  <a:srgbClr val="000000"/>
                </a:solidFill>
                <a:latin typeface="Calibri"/>
              </a:rPr>
              <a:t>131-MIBG-intense accumulation of MIBG in oval shaped, presacral tumor mass. </a:t>
            </a:r>
            <a:r>
              <a:rPr b="0" lang="sr-Latn-RS" sz="2200" spc="-1" strike="noStrike">
                <a:solidFill>
                  <a:srgbClr val="000000"/>
                </a:solidFill>
                <a:latin typeface="Calibri"/>
              </a:rPr>
              <a:t>A</a:t>
            </a:r>
            <a:r>
              <a:rPr b="0" lang="en-US" sz="2200" spc="-1" strike="noStrike">
                <a:solidFill>
                  <a:srgbClr val="000000"/>
                </a:solidFill>
                <a:latin typeface="Calibri"/>
              </a:rPr>
              <a:t>accumulation of MIBG is also seen in abdomen</a:t>
            </a:r>
            <a:endParaRPr b="0" lang="en-US" sz="2200" spc="-1" strike="noStrike">
              <a:solidFill>
                <a:srgbClr val="000000"/>
              </a:solidFill>
              <a:latin typeface="Calibri Light"/>
            </a:endParaRPr>
          </a:p>
        </p:txBody>
      </p:sp>
      <p:pic>
        <p:nvPicPr>
          <p:cNvPr id="74" name="Picture 6" descr=""/>
          <p:cNvPicPr/>
          <p:nvPr/>
        </p:nvPicPr>
        <p:blipFill>
          <a:blip r:embed="rId1"/>
          <a:stretch/>
        </p:blipFill>
        <p:spPr>
          <a:xfrm>
            <a:off x="0" y="1055520"/>
            <a:ext cx="3468600" cy="5241960"/>
          </a:xfrm>
          <a:prstGeom prst="rect">
            <a:avLst/>
          </a:prstGeom>
          <a:ln w="0">
            <a:noFill/>
          </a:ln>
        </p:spPr>
      </p:pic>
      <p:sp>
        <p:nvSpPr>
          <p:cNvPr id="75" name="TextBox 7"/>
          <p:cNvSpPr/>
          <p:nvPr/>
        </p:nvSpPr>
        <p:spPr>
          <a:xfrm>
            <a:off x="-3240" y="6464160"/>
            <a:ext cx="469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Calibri"/>
              </a:rPr>
              <a:t>                    </a:t>
            </a:r>
            <a:r>
              <a:rPr b="0" lang="sr-Latn-RS" sz="1400" spc="-1" strike="noStrike">
                <a:solidFill>
                  <a:srgbClr val="000000"/>
                </a:solidFill>
                <a:latin typeface="Calibri"/>
              </a:rPr>
              <a:t>WBS I-131 MIBG 77 MBq</a:t>
            </a:r>
            <a:endParaRPr b="0" lang="en-US" sz="1400" spc="-1" strike="noStrike">
              <a:solidFill>
                <a:srgbClr val="000000"/>
              </a:solidFill>
              <a:latin typeface="Arial"/>
            </a:endParaRPr>
          </a:p>
        </p:txBody>
      </p:sp>
      <p:pic>
        <p:nvPicPr>
          <p:cNvPr id="76" name="Picture 5" descr=""/>
          <p:cNvPicPr/>
          <p:nvPr/>
        </p:nvPicPr>
        <p:blipFill>
          <a:blip r:embed="rId2"/>
          <a:srcRect l="1250" t="0" r="2079" b="0"/>
          <a:stretch/>
        </p:blipFill>
        <p:spPr>
          <a:xfrm>
            <a:off x="3990960" y="1055520"/>
            <a:ext cx="7496280" cy="496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506520" y="195120"/>
            <a:ext cx="11128320" cy="6342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55600"/>
            <a:ext cx="10515600" cy="861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6</a:t>
            </a:r>
            <a:endParaRPr b="0" lang="en-US" sz="36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history: 41 years old female with long-standing history of hypertension, possibly since age 14, who has been treated with various medications. She had several hypertensive crises in the last year requiring hospitalization. Her medications included doxazosin mesylate, irbesartan, hydralazine, clonidine, spironolactone, hydrochlorothiazide, and atenolol. An abdominal MR exam showed a left adrenal adenoma (drop in signal on opposed-phase imaging). However, 24-hour urine catecholamines were elevated, with normetanephrine at 618 mcg/24 hours and total metanephrine at 746 mcg/24 hours.</a:t>
            </a:r>
            <a:endParaRPr b="0" lang="en-US" sz="24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Differential diagnosis?</a:t>
            </a:r>
            <a:endParaRPr b="0" lang="en-US" sz="24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ich nuclear medicine examination would you per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3641760" y="601560"/>
            <a:ext cx="7545240" cy="5703840"/>
          </a:xfrm>
          <a:prstGeom prst="rect">
            <a:avLst/>
          </a:prstGeom>
          <a:ln w="0">
            <a:noFill/>
          </a:ln>
        </p:spPr>
      </p:pic>
      <p:sp>
        <p:nvSpPr>
          <p:cNvPr id="81" name="Rectangle 5"/>
          <p:cNvSpPr/>
          <p:nvPr/>
        </p:nvSpPr>
        <p:spPr>
          <a:xfrm>
            <a:off x="227160" y="1841400"/>
            <a:ext cx="2867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is expected I-123 MIBG activity in the salivary glands, myocardium, liver, and urinary bladder. There is a focus of increased activity at the expected location of the left adrenal gland, consistent with the presence of a pheochromocytoma. No other foci of abnormal iodine 123 MIBG accumulation are s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851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7</a:t>
            </a:r>
            <a:endParaRPr b="0" lang="en-US" sz="36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history: This is a 50-year-old male with diagnosis of carcinoid tumor in the terminal ileum and numerous hepatic lesions per an abdominal pelvic 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tial diagno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nuclear medicine examination would you perfor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ctreoSca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biochemical analyzes would you perform?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gA, 5HIAA</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3">
                                            <p:txEl>
                                              <p:pRg st="0" end="0"/>
                                            </p:txEl>
                                          </p:spTgt>
                                        </p:tgtEl>
                                        <p:attrNameLst>
                                          <p:attrName>style.visibility</p:attrName>
                                        </p:attrNameLst>
                                      </p:cBhvr>
                                      <p:to>
                                        <p:strVal val="visible"/>
                                      </p:to>
                                    </p:set>
                                    <p:anim calcmode="lin" valueType="num">
                                      <p:cBhvr additive="base">
                                        <p:cTn id="39"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3">
                                            <p:txEl>
                                              <p:pRg st="0" end="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83">
                                            <p:txEl>
                                              <p:pRg st="1" end="1"/>
                                            </p:txEl>
                                          </p:spTgt>
                                        </p:tgtEl>
                                        <p:attrNameLst>
                                          <p:attrName>style.visibility</p:attrName>
                                        </p:attrNameLst>
                                      </p:cBhvr>
                                      <p:to>
                                        <p:strVal val="visible"/>
                                      </p:to>
                                    </p:set>
                                    <p:anim calcmode="lin" valueType="num">
                                      <p:cBhvr additive="base">
                                        <p:cTn id="43"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83">
                                            <p:txEl>
                                              <p:pRg st="2" end="2"/>
                                            </p:txEl>
                                          </p:spTgt>
                                        </p:tgtEl>
                                        <p:attrNameLst>
                                          <p:attrName>style.visibility</p:attrName>
                                        </p:attrNameLst>
                                      </p:cBhvr>
                                      <p:to>
                                        <p:strVal val="visible"/>
                                      </p:to>
                                    </p:set>
                                    <p:anim calcmode="lin" valueType="num">
                                      <p:cBhvr additive="base">
                                        <p:cTn id="47"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83">
                                            <p:txEl>
                                              <p:pRg st="3" end="3"/>
                                            </p:txEl>
                                          </p:spTgt>
                                        </p:tgtEl>
                                        <p:attrNameLst>
                                          <p:attrName>style.visibility</p:attrName>
                                        </p:attrNameLst>
                                      </p:cBhvr>
                                      <p:to>
                                        <p:strVal val="visible"/>
                                      </p:to>
                                    </p:set>
                                    <p:anim calcmode="lin" valueType="num">
                                      <p:cBhvr additive="base">
                                        <p:cTn id="51"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83">
                                            <p:txEl>
                                              <p:pRg st="3" end="3"/>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83">
                                            <p:txEl>
                                              <p:pRg st="4" end="4"/>
                                            </p:txEl>
                                          </p:spTgt>
                                        </p:tgtEl>
                                        <p:attrNameLst>
                                          <p:attrName>style.visibility</p:attrName>
                                        </p:attrNameLst>
                                      </p:cBhvr>
                                      <p:to>
                                        <p:strVal val="visible"/>
                                      </p:to>
                                    </p:set>
                                    <p:anim calcmode="lin" valueType="num">
                                      <p:cBhvr additive="base">
                                        <p:cTn id="55"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3">
                                            <p:txEl>
                                              <p:pRg st="4" end="4"/>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83">
                                            <p:txEl>
                                              <p:pRg st="5" end="5"/>
                                            </p:txEl>
                                          </p:spTgt>
                                        </p:tgtEl>
                                        <p:attrNameLst>
                                          <p:attrName>style.visibility</p:attrName>
                                        </p:attrNameLst>
                                      </p:cBhvr>
                                      <p:to>
                                        <p:strVal val="visible"/>
                                      </p:to>
                                    </p:set>
                                    <p:anim calcmode="lin" valueType="num">
                                      <p:cBhvr additive="base">
                                        <p:cTn id="59"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838080" y="404280"/>
            <a:ext cx="10515600" cy="373716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H: </a:t>
            </a:r>
            <a:r>
              <a:rPr b="0" lang="en-US" sz="2400" spc="-1" strike="noStrike">
                <a:solidFill>
                  <a:srgbClr val="000000"/>
                </a:solidFill>
                <a:latin typeface="Calibri"/>
              </a:rPr>
              <a:t>The omentum and peritoneum presented no neoplasia. In hepatic tissue, the nature of the lesion was confirmed by immunohistochemistry, that showed positivity for synaptophysin (clone SY38), chromogranin A (clone DAK-A3), CDX-2, AE1/AE3 diffusely and KI-67 positive on 2% of cells. The immunohistochemically panel was accordant with an infiltrative and well differentiated neuroendocrine tumor in the liver, with its origin in the digestive tract. After the biopsy results, was requested a 24 h urine 5-hydroxy-indolacetic acid 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86" name="Picture 2" descr=""/>
          <p:cNvPicPr/>
          <p:nvPr/>
        </p:nvPicPr>
        <p:blipFill>
          <a:blip r:embed="rId1"/>
          <a:stretch/>
        </p:blipFill>
        <p:spPr>
          <a:xfrm>
            <a:off x="3921120" y="1946160"/>
            <a:ext cx="5943600" cy="3713400"/>
          </a:xfrm>
          <a:prstGeom prst="rect">
            <a:avLst/>
          </a:prstGeom>
          <a:ln w="0">
            <a:noFill/>
          </a:ln>
        </p:spPr>
      </p:pic>
      <p:sp>
        <p:nvSpPr>
          <p:cNvPr id="87" name="Rectangle 4"/>
          <p:cNvSpPr/>
          <p:nvPr/>
        </p:nvSpPr>
        <p:spPr>
          <a:xfrm>
            <a:off x="1471680" y="5719680"/>
            <a:ext cx="609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 has evolved and was discharged with a prescription of Sandostatin LAR (Octreotide 20 mg at 4-week intervals) and planing PR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4680"/>
            <a:ext cx="1051560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atient 1</a:t>
            </a:r>
            <a:endParaRPr b="0" lang="en-US" sz="3200" spc="-1" strike="noStrike">
              <a:solidFill>
                <a:srgbClr val="000000"/>
              </a:solidFill>
              <a:latin typeface="Calibri Light"/>
            </a:endParaRPr>
          </a:p>
        </p:txBody>
      </p:sp>
      <p:sp>
        <p:nvSpPr>
          <p:cNvPr id="51" name=""/>
          <p:cNvSpPr txBox="1"/>
          <p:nvPr/>
        </p:nvSpPr>
        <p:spPr>
          <a:xfrm>
            <a:off x="838080" y="1117440"/>
            <a:ext cx="10515600" cy="512784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y-six year old, asymptomatic female with routine hematological examination demonstrating an elevated calcium level 2.9 (reference value 2.2 to 2.7 mmol/L), low phosphorous level 1.2 (normal level 2.5 to 4.5 mg/dL) and parathyroid hormone value of 134 (normal level 15-65 pg/mL)</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fferential diagnosis?</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perparathyroidism</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ich nuclear medicine examination would you perform?</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6 mCi Technetium-99m sestamibi, i.v. parathyroid scan</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1">
                                            <p:txEl>
                                              <p:pRg st="4" end="4"/>
                                            </p:txEl>
                                          </p:spTgt>
                                        </p:tgtEl>
                                        <p:attrNameLst>
                                          <p:attrName>style.visibility</p:attrName>
                                        </p:attrNameLst>
                                      </p:cBhvr>
                                      <p:to>
                                        <p:strVal val="visible"/>
                                      </p:to>
                                    </p:set>
                                    <p:anim calcmode="lin" valueType="num">
                                      <p:cBhvr additive="base">
                                        <p:cTn id="3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4680"/>
            <a:ext cx="10515600" cy="8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tient 8</a:t>
            </a:r>
            <a:endParaRPr b="0" lang="en-US" sz="4400" spc="-1" strike="noStrike">
              <a:solidFill>
                <a:srgbClr val="000000"/>
              </a:solidFill>
              <a:latin typeface="Calibri Light"/>
            </a:endParaRPr>
          </a:p>
        </p:txBody>
      </p:sp>
      <p:sp>
        <p:nvSpPr>
          <p:cNvPr id="89" name=""/>
          <p:cNvSpPr txBox="1"/>
          <p:nvPr/>
        </p:nvSpPr>
        <p:spPr>
          <a:xfrm>
            <a:off x="838080" y="1825200"/>
            <a:ext cx="10515600" cy="435132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history: The patient was initially evaluated with abdominal ultrasound at an outside hospital which showed a pancreatic mass. This was followed by endoscopic retrograde cholangiopancreatography(ERCP) with endoscopic ultrasound which demonstrated a 2.5cm x 1.7cm hypoechoic pancreatic neck mass and a 1.1cm peripancreatic lymph node which were biopsied. The cells were atypical and positive for synaptophysin consistent with a neuroendocrine tumor. Abdominal CT demonstrated dilatation of the pancreatic duct with pancreatic atrophy, but did not identify a definite mass.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T: Atrophic pancreas with a dilated pancreatic duct. No definite mass.</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RCP with endoscopic US (not shown): 2.5cm x 1.7cm hypoechoic pancreatic neck mass and a 1.1cm peripancreatic lymph node</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Which biochemical analyzes would you perform?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ifferential Diagnosis Lis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91" name="Picture 2" descr=""/>
          <p:cNvPicPr/>
          <p:nvPr/>
        </p:nvPicPr>
        <p:blipFill>
          <a:blip r:embed="rId1"/>
          <a:stretch/>
        </p:blipFill>
        <p:spPr>
          <a:xfrm>
            <a:off x="838080" y="1882800"/>
            <a:ext cx="3159360" cy="4417920"/>
          </a:xfrm>
          <a:prstGeom prst="rect">
            <a:avLst/>
          </a:prstGeom>
          <a:ln w="3240">
            <a:solidFill>
              <a:srgbClr val="000000"/>
            </a:solidFill>
            <a:miter/>
          </a:ln>
        </p:spPr>
      </p:pic>
      <p:pic>
        <p:nvPicPr>
          <p:cNvPr id="92" name="Picture 3" descr=""/>
          <p:cNvPicPr/>
          <p:nvPr/>
        </p:nvPicPr>
        <p:blipFill>
          <a:blip r:embed="rId2"/>
          <a:stretch/>
        </p:blipFill>
        <p:spPr>
          <a:xfrm>
            <a:off x="5056200" y="1879560"/>
            <a:ext cx="1454040" cy="3840120"/>
          </a:xfrm>
          <a:prstGeom prst="rect">
            <a:avLst/>
          </a:prstGeom>
          <a:ln w="3240">
            <a:solidFill>
              <a:srgbClr val="000000"/>
            </a:solidFill>
            <a:miter/>
          </a:ln>
        </p:spPr>
      </p:pic>
      <p:pic>
        <p:nvPicPr>
          <p:cNvPr id="93" name="Picture 4" descr=""/>
          <p:cNvPicPr/>
          <p:nvPr/>
        </p:nvPicPr>
        <p:blipFill>
          <a:blip r:embed="rId3"/>
          <a:stretch/>
        </p:blipFill>
        <p:spPr>
          <a:xfrm>
            <a:off x="6559560" y="1879560"/>
            <a:ext cx="1442880" cy="3840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4680"/>
            <a:ext cx="1051560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Preparing for nuclear medicine test</a:t>
            </a:r>
            <a:endParaRPr b="0" lang="en-US" sz="2800" spc="-1" strike="noStrike">
              <a:solidFill>
                <a:srgbClr val="000000"/>
              </a:solidFill>
              <a:latin typeface="Calibri Light"/>
            </a:endParaRPr>
          </a:p>
        </p:txBody>
      </p:sp>
      <p:sp>
        <p:nvSpPr>
          <p:cNvPr id="95" name=""/>
          <p:cNvSpPr txBox="1"/>
          <p:nvPr/>
        </p:nvSpPr>
        <p:spPr>
          <a:xfrm>
            <a:off x="838080" y="1196640"/>
            <a:ext cx="10515600" cy="49798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c-99m methylene diphosphonate (MDP) is the most widely used bone-imaging agent. In cardiology, we use this agent for diagnostic</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pertension arterialis</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iac amyloidosis</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left bundle branch</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jection fraction</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of the following are recommended means of reducing radiation exposure EXCEPT:</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remote handling devices</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ying shielding</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aring film badge</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mitation of time</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f two or more different nuclides having the same mass number is called:</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mer</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sotope</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bar</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tone</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838080" y="350640"/>
            <a:ext cx="10515600" cy="61671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intillation detectors convert:</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amma ray energy into a curren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ible light into ultraviolet ligh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mma ray energy into visible ligh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ectron energy into potential energy.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oltage into curren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esence of a focal defect on stress images that was not seen on rest images, is called:</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versible perfusion defec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xed perfusion defec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seudo aneurysm</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diomyopathy</a:t>
            </a:r>
            <a:endParaRPr b="0" lang="en-US" sz="1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tomultiplier tube (PMT) consists of a photocathode and a series of dynodes in an evacuated glass enclosure. PMT convert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light photons into an electrical signal</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lectrical signal into ligh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lectrical signal into hea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at into ligh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etium-99m and technetium-99 are:</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tone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bar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mer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tope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8080" y="437760"/>
            <a:ext cx="10515600" cy="63579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one “cold” nodule in an otherwise normal thyroid gland warrant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rgical removal</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ine needle aspiration biops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adiation therap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emotherap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odine-131 is considered to be the treatment of choice in many patients with Graves’ disease. The most common side effect of radioactive iodine (RAI) treatment is:</a:t>
            </a:r>
            <a:endParaRPr b="0" lang="en-US" sz="11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yperthyroidism</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ypothyroidism</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yroid carcinoma</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yroid nodule</a:t>
            </a:r>
            <a:endParaRPr b="0" lang="en-US" sz="1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medications can be used for myocardial perfusion imaging (MPI)  using pharmacological stress testing?</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pranolol</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enosine </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piri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Which of the following patients undergoing diagnostic medical procedures are considered as a radioactive source?</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MRI study with gadolinium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CT scan with iodine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tient undergoing Nuclear medicine  study with radiopharmaceutical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X-ray stud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 isomeric transition decay, the extra energy in the nucleus is released by the emission of:</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ray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ectr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amma phot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utr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731880" y="1401840"/>
            <a:ext cx="3587760" cy="5135400"/>
          </a:xfrm>
          <a:prstGeom prst="rect">
            <a:avLst/>
          </a:prstGeom>
          <a:ln w="0">
            <a:noFill/>
          </a:ln>
        </p:spPr>
      </p:pic>
      <p:sp>
        <p:nvSpPr>
          <p:cNvPr id="53" name="Rectangle 4"/>
          <p:cNvSpPr/>
          <p:nvPr/>
        </p:nvSpPr>
        <p:spPr>
          <a:xfrm>
            <a:off x="895320" y="682920"/>
            <a:ext cx="38228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denoma gl. parathyreoideae l. sin inferior</a:t>
            </a:r>
            <a:endParaRPr b="0" lang="en-US" sz="1600" spc="-1" strike="noStrike">
              <a:solidFill>
                <a:srgbClr val="000000"/>
              </a:solidFill>
              <a:latin typeface="Arial"/>
            </a:endParaRPr>
          </a:p>
        </p:txBody>
      </p:sp>
      <p:sp>
        <p:nvSpPr>
          <p:cNvPr id="54" name="Rectangle 4"/>
          <p:cNvSpPr/>
          <p:nvPr/>
        </p:nvSpPr>
        <p:spPr>
          <a:xfrm>
            <a:off x="5924520" y="409680"/>
            <a:ext cx="5661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nd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L 10-MINUTE, ANTERIOR PLANAR IMAGE OF THE NECK: Focus of increased radiopharmaceutical uptake located inferior to the caudad margin of the left thyroid lobe, separate from the thyroid g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ogeneous uptake of radiotracer in a normal, non-enlarged thyroid g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AYED 2-HOUR, ANTERIOR PLANAR IMAGE OF THE NECK: </a:t>
            </a:r>
            <a:r>
              <a:rPr b="1" lang="en-US" sz="1800" spc="-1" strike="noStrike">
                <a:solidFill>
                  <a:srgbClr val="000000"/>
                </a:solidFill>
                <a:latin typeface="Arial"/>
                <a:ea typeface="Arial"/>
              </a:rPr>
              <a:t>Persistence of activity in a small, rounded focus, located inferior to the caudad margin of the left thyroid lo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rmal thyroidal washout, with no significant residual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428400"/>
            <a:ext cx="10515600" cy="6127560"/>
          </a:xfrm>
          <a:prstGeom prst="rect">
            <a:avLst/>
          </a:prstGeom>
          <a:noFill/>
          <a:ln w="0">
            <a:noFill/>
          </a:ln>
        </p:spPr>
        <p:txBody>
          <a:bodyPr anchor="t">
            <a:normAutofit/>
          </a:bodyPr>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iscussion:</a:t>
            </a:r>
            <a:endParaRPr b="0" lang="en-US" sz="11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etium-99m sestamibi is a lipophilic, radiopharmaceutical, used for both myocardial perfusion and tumor imaging. Sestamibi accumulates in both thyroid and parathyroid glands, in proportion to the regional blood flow. The degree of sestamibi uptake by a parathyroid adenoma is independent of parathyroid hormone levels, but depends in part on gland size. The mechanism of sestamibi localization within the mitochondria and cytoplasm of an adenoma is in response to the electrical potentials generated across membrane bilayers. The large number of mitochondria in the cells of parathyroid adenomas may be responsible for the avid uptake and slow release of Tc-99 sestamibi in parathyroid adenomas compared to surrounding thyroid tissue.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ledge of the embryological development of the parathyroid glands is essential in understanding location variations, a prerequisite for successful imaging.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rior parathyroid glands, migrate caudally with the thymus, normally only as far as the inferior poles of the thyroid gland, but may descend with the thymus gland into the thorax. Approximately 90-95% of inferior parathyroid glands are located in the immediate vicinity of the lower pole of the thyroid gland, with ectopic sites including the superior thymic pole (39%), mediastinum (2%) and other miscellaneous sites.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on of the larger pair of superior parathyroid glands,, is more constant, with 99% located behind the upper poles of the thyroid lobes. The sensitivity of Tc-99m sestamibi in detection of parathyroid adenomas ranges from 88% to 100%, comparable to that of magnetic resonance imaging, and better than conventional imaging, including CT.</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At surgery, an aberrant left inferior parathyoid adenoma was found. The adenoma was resected, with subsequent return of the patient's calcium and parathyroid hormone levels to norma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tient –primary hyperparathyeroidism</a:t>
            </a:r>
            <a:endParaRPr b="0" lang="en-US" sz="4400" spc="-1" strike="noStrike">
              <a:solidFill>
                <a:srgbClr val="000000"/>
              </a:solidFill>
              <a:latin typeface="Calibri Light"/>
            </a:endParaRPr>
          </a:p>
        </p:txBody>
      </p:sp>
      <p:pic>
        <p:nvPicPr>
          <p:cNvPr id="57" name="Picture 2" descr=""/>
          <p:cNvPicPr/>
          <p:nvPr/>
        </p:nvPicPr>
        <p:blipFill>
          <a:blip r:embed="rId1"/>
          <a:stretch/>
        </p:blipFill>
        <p:spPr>
          <a:xfrm>
            <a:off x="5205240" y="1701720"/>
            <a:ext cx="3305520" cy="4854600"/>
          </a:xfrm>
          <a:prstGeom prst="rect">
            <a:avLst/>
          </a:prstGeom>
          <a:ln w="0">
            <a:noFill/>
          </a:ln>
        </p:spPr>
      </p:pic>
      <p:sp>
        <p:nvSpPr>
          <p:cNvPr id="58" name="Rectangle 4"/>
          <p:cNvSpPr/>
          <p:nvPr/>
        </p:nvSpPr>
        <p:spPr>
          <a:xfrm>
            <a:off x="447840" y="3503880"/>
            <a:ext cx="3822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denoma gl. parathyreoideae l. dex infe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4680"/>
            <a:ext cx="10515600" cy="655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2</a:t>
            </a:r>
            <a:endParaRPr b="0" lang="en-US" sz="3600" spc="-1" strike="noStrike">
              <a:solidFill>
                <a:srgbClr val="000000"/>
              </a:solidFill>
              <a:latin typeface="Calibri Light"/>
            </a:endParaRPr>
          </a:p>
        </p:txBody>
      </p:sp>
      <p:sp>
        <p:nvSpPr>
          <p:cNvPr id="60" name=""/>
          <p:cNvSpPr txBox="1"/>
          <p:nvPr/>
        </p:nvSpPr>
        <p:spPr>
          <a:xfrm>
            <a:off x="838080" y="1254240"/>
            <a:ext cx="10515600" cy="520992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history: 76 year old man with history of hypercalcemia, elevated serum parathyroid hormone level and end-stage renal failure who had a resection of 3-1/2 parathyroid glands recently yet has persistently elevated serum calcium and PTH. The study is requested to evaluate for residual or ectopic parathyroid tissue.</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diopharmaceutical: 21.9 mCi Tc-99m sestamibi i.v.</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The planar parathyroid Tc-99m sestamibi scan demonstrates a large oblong, vertically-oriented focus of increased activity in the midline of the upper chest on both early and delayed images. The abnormality is just above the level of the aortic arch. The position of the abnormal focus is confirmed on SPECT images of the neck and upper torso. This is consistent with a persistent mediastinal parathyroid adenoma. No other foci of increased activity are seen.</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plain the role Tc-99m sestamibi in evaluating patients with secondary hyperparathyroidis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2233440" y="2341440"/>
            <a:ext cx="4915080" cy="2200320"/>
          </a:xfrm>
          <a:prstGeom prst="rect">
            <a:avLst/>
          </a:prstGeom>
          <a:ln w="0">
            <a:noFill/>
          </a:ln>
        </p:spPr>
      </p:pic>
      <p:sp>
        <p:nvSpPr>
          <p:cNvPr id="63" name="Rectangle 5"/>
          <p:cNvSpPr/>
          <p:nvPr/>
        </p:nvSpPr>
        <p:spPr>
          <a:xfrm>
            <a:off x="2603160" y="4616280"/>
            <a:ext cx="378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terior 10 min. and 2 hr delay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38080" y="398160"/>
            <a:ext cx="10515600" cy="57783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iscussion:</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c-99m sestamibi has been widely used to evaluate patients for the presence of parathyroid adenomas. It has effectively replaced the previously popular Thallium-201/Tc99m-Pertechnetate method.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fter the initial uptake, there is no significant wash-out of sestamibi from parathyroid adenoma tissue which is presumably due to mitochondrial binding. In contrast, by 2 hours, there is marked reduction in sestamibi concentration within the thyroid tissue thus resulting in high parathyroid-to-thyroid uptake ratio of the radiopharmaceutical. The standard examination consists of 10 minute delayed planar and SPECT images to demonstrate the anatomic relationship between the thyroid gland and parathyroid adenoma. This is followed by a 2 hour delayed planar image.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sensitivity of Tc-99m Sestamibi for detection of parathyroid adenoma has been quoted at 87% which compares with 71% for Thallium-201/Tc99m-Pertechnatate studies.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Followup:</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surgery, a parathyroid adenoma was found at the location indicated both by the scan and CT.</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752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atient 3</a:t>
            </a:r>
            <a:endParaRPr b="0" lang="en-US" sz="3200" spc="-1" strike="noStrike">
              <a:solidFill>
                <a:srgbClr val="000000"/>
              </a:solidFill>
              <a:latin typeface="Calibri Light"/>
            </a:endParaRPr>
          </a:p>
        </p:txBody>
      </p:sp>
      <p:sp>
        <p:nvSpPr>
          <p:cNvPr id="66" name=""/>
          <p:cNvSpPr txBox="1"/>
          <p:nvPr/>
        </p:nvSpPr>
        <p:spPr>
          <a:xfrm>
            <a:off x="838080" y="1287000"/>
            <a:ext cx="10515600" cy="459756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year-old woman who has 10 year history of hypertension and was diagnosed with a left-sided adrenal mass measuring approximately 5 cm in maximum dimension. She underwent a laparoscopic left adrenalectomy. The patient's pathology was consistent with a pheochromocytoma at that time. There was no description of direct invasion of surrounding soft tissues or vascular invasion. Most recently, the patient has had an exacerbation of her hypertension with a recent blood pressure in the hospital of 248/120. She has also developed recurrent symptoms, including excessive sweating, cold fingertips, palpitations, and recurrent headaches.</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fferential diagnosis?</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nuclear medicine examination would you perform?</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biochemical analyzes would you perform? </a:t>
            </a:r>
            <a:endParaRPr b="0" lang="en-US" sz="1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29T20:02:13Z</dcterms:created>
  <dc:creator>user</dc:creator>
  <dc:description/>
  <dc:language>en-US</dc:language>
  <cp:lastModifiedBy>Vladimir Vukomanovic</cp:lastModifiedBy>
  <dcterms:modified xsi:type="dcterms:W3CDTF">2023-12-11T14:42:01Z</dcterms:modified>
  <cp:revision>15</cp:revision>
  <dc:subject/>
  <dc:title>PowerPoint Presentation</dc:title>
</cp:coreProperties>
</file>